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C1E-94BB-4C65-B24E-FD8EB3B38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235-6F63-4108-9213-DD7658B3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8CF97-F586-473B-8370-6CDF0776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770BC-8891-4364-AE4D-2BC15D08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1E175B-F1CE-4780-87E0-C8EFFA94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9574F-0E7E-4737-AFBC-1B369D75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FBDB7-9540-43C3-A488-49EE5046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20695-98A8-4A29-9DB6-B25CE321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F3830-93BB-49F6-B562-362DC946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CE513-F0C4-488E-A282-381F2A54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9DA8C-C09A-427F-8ED5-65F0DA2DA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E1468-2240-4AC1-8DC0-9A3B9B9D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47F-B13F-444B-90A2-A7FBF4F4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1C3B9-8E7E-4F70-9C0C-4CF3FF3D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08926-74BA-40C0-B655-2E6F7787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EDE74-DFC6-423C-AFAC-98911663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64A5B-C55D-49C1-967B-521737A0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9DA3D-8B1D-4444-AECD-CDBDBAAF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8DFE2-8C56-49A5-8C98-E96E1DD3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4C160-E3EA-491E-8DBC-E5AC70FE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D94A0-8457-420A-9DF2-887AB0D8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16B11-9E84-4B93-8574-0C75179B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57E85-6A3D-4B6D-AE0E-BA38E568E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9578-C5AE-4B6A-9702-D937E28D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C7383-3259-4129-A30E-B895C2447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322B-5124-4EFF-87E4-211B019B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3A3C-8B1F-4582-80AB-C44DA3E0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5822-7A80-491C-9089-93FE3F96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E997-00DA-4B35-849C-C4D4B2C5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9523-8360-4A23-9B8B-89750BD1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E4A7-8966-4E8B-AFD4-08065C8D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F811-0F2D-4818-9CAA-5F4197AC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B52-8517-4C3A-8086-E2DF8968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1535-2A1D-4AEE-9E5D-26748493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EE78-CF1C-4552-96EF-A0491038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051B-0E27-4A46-8959-56216DE1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7365-3836-42A3-8E8D-F55FC7A3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5654-6EB1-40D0-BADD-B0FB5DAA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7CB9A-7F10-4230-81E5-555F6418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53452-E4F2-40BC-AA8B-D0129C28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77FC-D4F9-4A21-AC4E-0E875ED0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8100E-1DEF-4DFC-A74A-6CCD42FF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CDFAB-FC0D-45A9-A681-416A159A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766B-A223-4F6A-ABEF-EABA9355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64F9A-A80F-4E58-AE6F-5C8BF357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2C471-E5BC-414C-8723-DD1829DC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F2B6F-D8E8-4EC5-95C2-78C14F71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B3044-ED35-463F-896C-B1744EA1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F76C6-02A2-4257-A875-222564EB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6E11B-5291-4F5F-AAB1-72EDD3DE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6C553-918C-43FE-821F-CFB28923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1AC93-6A33-4325-8FCC-CCDFE8DC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34ECE-1198-45C7-9CBD-01CE22D4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089B1-0656-4777-8790-DC81D833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6DB8-1116-462E-B7B2-07FFA939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A90DD-78A0-4E69-8DFF-5FAE7155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49885-AEBB-41C3-8D80-156C4461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49B3F-5FD2-4798-9440-8D113657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20840-8D28-4D20-A374-397D9C8E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28785-6244-46E9-8A65-3F89EAE3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44937-F185-46A9-BCDA-0DF6B48F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86938-A659-40A7-BFE4-6DE65D92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2866F-2F85-4951-ABE6-21861442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39408-9FA7-4330-B6E8-E417626E9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75691-0E51-44E6-AA6C-9BFF56E9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CAD-EB76-46E4-A2A0-716AF21A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D00D2-8D04-479D-84B8-D2B89255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3D6EF-55BB-42D6-9122-218C79D0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62B72-62AA-47EE-BCBB-21F5698C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C2D76-0A44-4EF7-A2E6-DBA88C13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D4E64-F9D3-429F-99E9-5F28636A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51784-73E2-4AC8-9D3A-414FFA95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7D09F-D5B5-47EA-8611-801B087E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B6B6F-167B-4F44-B0E3-ADAA1B11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3C8C0-8B36-4DD2-8D80-4D1582F0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605A9-E6BA-4322-978F-76817541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FB63-7C99-4C34-B3B8-EB90312E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B148D-69DB-4384-A5C8-2060F090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BE05A-7AC8-4A82-A58C-79B333BE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5E9B5-3E9D-4C0A-AEFD-9DB6088C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CC5AE-4F6B-47D2-AB46-9693FB1C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D6011-0A35-46E9-A804-A95D560F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779DD-52AC-40B5-B3E1-5745FF5D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58571-F879-4561-A85A-ADC13D43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DC422-C05A-45BA-9C07-975642FE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C9171-D75F-44F0-B76C-2BE53A3A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73A13-1631-46BF-AAC1-FFB8F6C7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DB8-CFFE-45FB-B852-602CB969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A19F3-0C59-494B-8A07-9EAF5D3D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60484-9253-4D36-AB60-91111F664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CE3EB-11D3-4A3A-8F5D-199E106A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84918-1124-4F70-82D9-89C015B93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089E9-D5D7-468A-9F76-E2663767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C8646-8FD9-4AD7-9555-B6B56E14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86FC3-784A-4DC8-9DB8-8C5037CE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9E4FF-6C3D-4325-B7BB-AFD8A49B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584E7-DB7D-4195-A398-26217B39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F9274-BCB0-46F2-A52B-902BC99E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18B1-A2F0-4210-B93B-EADE8A9C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EF0FF-2570-4570-8B97-425C5FD7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A9E84-1590-402D-9F7B-D27B302B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9B610-D0DC-4548-A71C-9736355A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CA5FB-B018-4748-85A5-15FBAA0C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1A37D-B96C-4BF8-B96D-607B5C89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BD3ED-5E67-4BDF-B695-519F3A49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C0F17-4911-41B3-8C05-5CACC51D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25BD0-49E2-42A5-8AD0-B2AAC4B9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7CFD1-F289-4FDC-A8C1-AA730230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5293D-604C-4837-ACDD-A7C3F964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BD0-507B-40A2-A555-17763DC6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6D7BB-A532-4B7E-A83A-BA8ADF10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B11F2-BF92-40D5-BE0D-7E3A4DE0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30B8B-C2F8-4662-B4B0-888FFADB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32D59-167D-48FB-AB56-099B05F7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DBAF3-0C32-4862-8037-BEF41B1E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1B84B-D3DD-441D-A2E9-81FA5C8FD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385CB-820F-4383-AE20-067DD6013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8DEDE-0173-419B-BAA2-3A6ABE59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E6E3E-19EA-4585-A17B-067F1268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E0B89-EC15-45C2-AA1A-435633BF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E03E-749C-4DFF-8462-52BB1CDFDF8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8215-ED6F-4D7C-939D-D0189204F2C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1DE5-7150-4F1A-AC35-19407E81338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8933-2133-4722-8BC1-9B645409C4A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1FCD-29AD-4301-8175-A17E5347B3DE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1DE0-2E51-41DB-8750-AF1A6811A45F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F5C0-A147-4E96-B3E8-41D63D3F605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25D7-C225-4C88-B73E-6754EA4652C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1405-08B4-4EF7-9A48-0116CAB4BA3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7167-0A5C-4AFF-88FC-4D046B71F60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2998440"/>
            <a:ext cx="629136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KORN 102-0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1499760" y="4856040"/>
            <a:ext cx="698508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LESSON 1 </a:t>
            </a: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안녕하십니까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가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: ___________(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7030a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7030a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나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: _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운동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주무시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시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타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앉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숙제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ssignment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굴림"/>
              </a:rPr>
              <a:t>Terminate the following verbs with declarative, interrogative, and imperative e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보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입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제임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안녕하십니까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Corbel"/>
                <a:ea typeface="굴림"/>
              </a:rPr>
              <a:t>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하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?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,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안녕하십니까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제임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660066"/>
                </a:solidFill>
                <a:latin typeface="Corbel"/>
                <a:ea typeface="굴림"/>
              </a:rPr>
              <a:t>안녕히 계십시오</a:t>
            </a:r>
            <a:r>
              <a:rPr b="0" lang="en-US" sz="30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히 계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은주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: </a:t>
            </a:r>
            <a:r>
              <a:rPr b="0" lang="ko-KR" sz="3000" spc="-1" strike="noStrike">
                <a:solidFill>
                  <a:srgbClr val="008000"/>
                </a:solidFill>
                <a:latin typeface="Corbel"/>
                <a:ea typeface="굴림"/>
              </a:rPr>
              <a:t>안녕히 가십시오</a:t>
            </a:r>
            <a:r>
              <a:rPr b="0" lang="en-US" sz="30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히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가세요</a:t>
            </a:r>
            <a:r>
              <a:rPr b="0" lang="en-US" sz="2600" spc="-1" strike="noStrike">
                <a:solidFill>
                  <a:srgbClr val="ff0000"/>
                </a:solidFill>
                <a:latin typeface="Corbel"/>
                <a:ea typeface="굴림"/>
              </a:rPr>
              <a:t>. </a:t>
            </a:r>
            <a:r>
              <a:rPr b="0" lang="ko-KR" sz="2600" spc="-1" strike="noStrike">
                <a:solidFill>
                  <a:srgbClr val="ff0000"/>
                </a:solidFill>
                <a:latin typeface="Corbel"/>
                <a:ea typeface="굴림"/>
              </a:rPr>
              <a:t>안녕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  <a:ea typeface="굴림"/>
              </a:rPr>
              <a:t>Study honorific expressions, talking up and down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DIALOGUE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be peaceful, be fine, be w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yes (In the dialogue here, it means ‘I’m fine’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히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안녕하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adverb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계시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polite expression of 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있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stay, 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가다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문법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Grammar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종결어미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(Terminative Endin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서술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Declar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습니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의문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Interrog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습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명령형 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Imperative (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오십시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으십시오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~ (Part of ending, honorific suffi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오십니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cc"/>
                </a:solidFill>
                <a:latin typeface="Corbel"/>
                <a:ea typeface="굴림"/>
              </a:rPr>
              <a:t>감으십니까</a:t>
            </a:r>
            <a:r>
              <a:rPr b="0" lang="en-US" sz="2800" spc="-1" strike="noStrike">
                <a:solidFill>
                  <a:srgbClr val="0000cc"/>
                </a:solidFill>
                <a:latin typeface="Corbel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3498840" y="2133720"/>
            <a:ext cx="5400720" cy="28861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2"/>
          <a:stretch/>
        </p:blipFill>
        <p:spPr>
          <a:xfrm>
            <a:off x="233280" y="285840"/>
            <a:ext cx="4343400" cy="2095560"/>
          </a:xfrm>
          <a:prstGeom prst="rect">
            <a:avLst/>
          </a:prstGeom>
          <a:ln w="0">
            <a:noFill/>
          </a:ln>
        </p:spPr>
      </p:pic>
      <p:sp>
        <p:nvSpPr>
          <p:cNvPr id="505" name="직사각형 3"/>
          <p:cNvSpPr/>
          <p:nvPr/>
        </p:nvSpPr>
        <p:spPr>
          <a:xfrm>
            <a:off x="4602240" y="3049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http://classroom.re.kr/uploadfile/content/content02/second04/data03/5_3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5" descr=""/>
          <p:cNvPicPr/>
          <p:nvPr/>
        </p:nvPicPr>
        <p:blipFill>
          <a:blip r:embed="rId3"/>
          <a:stretch/>
        </p:blipFill>
        <p:spPr>
          <a:xfrm>
            <a:off x="3564000" y="5157720"/>
            <a:ext cx="4781520" cy="1533600"/>
          </a:xfrm>
          <a:prstGeom prst="rect">
            <a:avLst/>
          </a:prstGeom>
          <a:ln w="0">
            <a:noFill/>
          </a:ln>
        </p:spPr>
      </p:pic>
      <p:sp>
        <p:nvSpPr>
          <p:cNvPr id="507" name="직사각형 4"/>
          <p:cNvSpPr/>
          <p:nvPr/>
        </p:nvSpPr>
        <p:spPr>
          <a:xfrm>
            <a:off x="262080" y="5924520"/>
            <a:ext cx="315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http://dlegongbuwarac.edupia.com/xmlPrint.aspx?did=20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50328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읽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사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bu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입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put on, dr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보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배우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lear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만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기다리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a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주무시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leep (h.f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498920" y="1600200"/>
            <a:ext cx="385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오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com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공부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tud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먹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쓰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write (bitter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마시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drin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s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잡수시다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먹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a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운동하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exerci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2640" indent="-33264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타다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ride, boar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보충단어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Additional Vocabulary)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(Pattern Drill) 1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ㅂ니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오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자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공부하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입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_________(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660066"/>
                </a:solidFill>
                <a:latin typeface="Corbel"/>
                <a:ea typeface="굴림"/>
              </a:rPr>
              <a:t>ㅂ니까</a:t>
            </a:r>
            <a:r>
              <a:rPr b="0" lang="en-US" sz="3200" spc="-1" strike="noStrike">
                <a:solidFill>
                  <a:srgbClr val="660066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, __________(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8000"/>
                </a:solidFill>
                <a:latin typeface="Corbel"/>
                <a:ea typeface="굴림"/>
              </a:rPr>
              <a:t>ㅂ니다</a:t>
            </a:r>
            <a:r>
              <a:rPr b="0" lang="en-US" sz="3200" spc="-1" strike="noStrike">
                <a:solidFill>
                  <a:srgbClr val="008000"/>
                </a:solidFill>
                <a:latin typeface="Corbel"/>
                <a:ea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배우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마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먹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0000"/>
                </a:solidFill>
                <a:latin typeface="Corbel"/>
                <a:ea typeface="굴림"/>
              </a:rPr>
              <a:t>유형 연습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620640" y="1557360"/>
            <a:ext cx="81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_______________(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으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Corbel"/>
                <a:ea typeface="굴림"/>
              </a:rPr>
              <a:t>십니까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  <a:ea typeface="굴림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기다리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읽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잡수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굴림"/>
              </a:rPr>
              <a:t>주무시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u</cp:lastModifiedBy>
  <dcterms:modified xsi:type="dcterms:W3CDTF">2012-09-17T02:02:25Z</dcterms:modified>
  <cp:revision>61</cp:revision>
  <dc:subject/>
  <dc:title>KOREAN LANGUAGE</dc:title>
</cp:coreProperties>
</file>